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16D-E294-44C0-B6BE-926748C9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1AB-4F54-4763-8757-288AF001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E18-FB54-4355-989D-2705D44A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8B4-B1DB-4758-ABA8-2DAEDFD9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DA62E-9618-49F4-9B40-AAC97DE7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92E4A-8363-4BE4-83EC-F04E18F7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61C55-9B6A-4587-A0C0-92435EA6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EC4EF-9503-4A87-B420-7172E930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984ED-FD0E-4B25-B82B-51ABBBFC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D2A6F-AC6D-4211-B757-439F6A0D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17F8C-1050-4D31-87B7-9632063D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483-E161-4D14-91EB-8ADB9FC7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CD139-A91F-47BD-A135-231735F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5D796-08EC-45AD-9F5B-57AE82EE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E2C29-0C83-43CA-912E-BCEB86DB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371CE-790A-4FE7-8D41-5E2AD348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C6447-A244-45CD-A112-D95AB404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0B8-3B59-43C9-BABB-CFCEE96F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6FB-FDDD-47D5-BFD7-7BB60013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88C-D83A-48B6-84FE-B56CEBF7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FE9-C006-428D-BA97-29034F28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D9D-D223-44A0-9D7F-0F2BA59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001-74F0-4988-8833-ACF6DF0E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DA8-9B38-4628-BED8-9C6E8E3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9A8-7E8B-4816-8276-7BDA7992E9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843-3760-4539-9CFF-0E9E12754C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ensguide.gpo.gov/3-5/state/wyoming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52280" y="533520"/>
            <a:ext cx="86108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yoming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51055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257800"/>
            <a:ext cx="2590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State Song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10/7/2010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50state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Name: Wy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Capital: Cheye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493,7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he Union: July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890 4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Equal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Equalit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Indian Paintbrus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Meadowl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Wy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Based on an Algonquin Indian word meaning “large prairie plac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Facts: State tree: Cottonwood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rgest State, Biggest City is Cheye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3530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867280" y="4191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Wyoming: Map and State Flag"/>
          <p:cNvPicPr/>
          <p:nvPr/>
        </p:nvPicPr>
        <p:blipFill>
          <a:blip r:embed="rId1"/>
          <a:srcRect l="0" t="39270" r="0" b="0"/>
          <a:stretch/>
        </p:blipFill>
        <p:spPr>
          <a:xfrm>
            <a:off x="6248520" y="137160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45720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Wyom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September 2010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bensguide.gpo.gov/3-5/state/wyoming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Wyoming: Map and State Flag"/>
          <p:cNvPicPr/>
          <p:nvPr/>
        </p:nvPicPr>
        <p:blipFill>
          <a:blip r:embed="rId3"/>
          <a:srcRect l="0" t="0" r="0" b="65652"/>
          <a:stretch/>
        </p:blipFill>
        <p:spPr>
          <a:xfrm>
            <a:off x="838080" y="1295280"/>
            <a:ext cx="30481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All images Copyright © 1997 - 2000 WriteLine. All Rights Reserved. Rodeo"/>
          <p:cNvPicPr/>
          <p:nvPr/>
        </p:nvPicPr>
        <p:blipFill>
          <a:blip r:embed="rId1"/>
          <a:stretch/>
        </p:blipFill>
        <p:spPr>
          <a:xfrm>
            <a:off x="0" y="0"/>
            <a:ext cx="8077320" cy="538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5562720"/>
            <a:ext cx="8534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yenne Frontier D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ember 22, 2010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ostcardsfrom.com/t1/99080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800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odeos are exc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All images Copyright © 1997 - 2000 WriteLine. All Rights Reserved. Flaming Gorge"/>
          <p:cNvPicPr/>
          <p:nvPr/>
        </p:nvPicPr>
        <p:blipFill>
          <a:blip r:embed="rId1"/>
          <a:stretch/>
        </p:blipFill>
        <p:spPr>
          <a:xfrm>
            <a:off x="0" y="0"/>
            <a:ext cx="8610480" cy="5740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5791320"/>
            <a:ext cx="8763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aming Gorge National Recreation Are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2, 2010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ostcardsfrom.com/t1/99080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522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ational Recreation Area Is a Great Place to Vis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All images Copyright © 1997 - 2000 WriteLine. All Rights Reserved. Green River"/>
          <p:cNvPicPr/>
          <p:nvPr/>
        </p:nvPicPr>
        <p:blipFill>
          <a:blip r:embed="rId1"/>
          <a:stretch/>
        </p:blipFill>
        <p:spPr>
          <a:xfrm>
            <a:off x="0" y="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5638680"/>
            <a:ext cx="8001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een River, Wyom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3, 2010 http://www.postcardsfrom.com/t1/990803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911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n River is A Must-See Place to Vis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5Z</dcterms:created>
  <dc:creator>install</dc:creator>
  <dc:description/>
  <dc:language>en-US</dc:language>
  <cp:lastModifiedBy>install</cp:lastModifiedBy>
  <dcterms:modified xsi:type="dcterms:W3CDTF">2010-10-14T13:19:48Z</dcterms:modified>
  <cp:revision>18</cp:revision>
  <dc:subject/>
  <dc:title>Slide 1</dc:title>
</cp:coreProperties>
</file>